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263-636E-44FA-BB5E-839F4DFEB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93F8-0C49-4A92-91EB-7AB0826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A21-5F62-4406-877B-DB7207B22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F6C7-F665-4D3A-9A1C-6CDA3CBA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459D-3BD6-430D-BAEF-21FD8D2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E67E-14CB-4ABF-9E9C-270769D5A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2B9-43ED-48D9-AD39-E20759D7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C78-0BAE-4E2D-B7BD-9828B3E4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3361-62E1-4114-B039-40622AD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7245-1FD7-4EC5-8091-F9F00907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217-A48F-4CE3-8EB0-A0ACF16A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848-F989-4223-8CD8-AD4FEAF4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CABBA6-E942-4B27-9B9E-12EDFC070BE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1" i="1" lang="ru-RU" sz="3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</a:t>
            </a:r>
            <a:r>
              <a:rPr b="1" i="1" lang="ru-RU" sz="31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 ДЛЯ ГРАЖДАН</a:t>
            </a:r>
            <a:br>
              <a:rPr sz="31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«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Краснознаменский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сельсовет» Касторенского района Курской области на 201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2019 и 2020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Админи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раснознаменско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Прогно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«Краснознамен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асторенского района 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Курской области на 2018 год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 плановый период 2019 и 2020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8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8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2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5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6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знаменский сельсовет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8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8" name="Object 3"/>
          <p:cNvGraphicFramePr/>
          <p:nvPr/>
        </p:nvGraphicFramePr>
        <p:xfrm>
          <a:off x="0" y="1341360"/>
          <a:ext cx="914400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на 2018 год (тыс.руб.)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 плановый период 2019 и 2020 годов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68360" y="1268280"/>
          <a:ext cx="8231040" cy="35211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2833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2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37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58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965,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оборо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2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3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6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безопасност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5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02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7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Социальная полити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48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35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236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знаменский сельсовет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 в 2018 год (тыс.руб.)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 плановый период 2019 и 2020 годов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907920"/>
          <a:ext cx="9002880" cy="4587840"/>
        </p:xfrm>
        <a:graphic>
          <a:graphicData uri="http://schemas.openxmlformats.org/drawingml/2006/table">
            <a:tbl>
              <a:tblPr/>
              <a:tblGrid>
                <a:gridCol w="6603840"/>
                <a:gridCol w="776520"/>
                <a:gridCol w="776160"/>
                <a:gridCol w="846360"/>
              </a:tblGrid>
              <a:tr h="50364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79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05,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9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75,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1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82,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Обеспечение доступным и комфортным жильем и коммунальными услугами граждан» МО «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Краснознаменский сельсовет</a:t>
                      </a: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0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.Муниципальная программа « Социальная поддержка граждан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6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. Муниципальная программа «развитие муниципальных служб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7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. Муниципальная программа « Защита населения и территории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знаменский сельсовет» 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31040" cy="517860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7491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</a:rPr>
                        <a:t>8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037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58,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965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01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93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92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7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7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08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70,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74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беспечение деятельности финансовыз, налоговых и таможенных органов и органов финансового (финансово-бюджетного)надз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3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8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313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59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user</cp:lastModifiedBy>
  <dcterms:modified xsi:type="dcterms:W3CDTF">2017-12-18T11:32:13Z</dcterms:modified>
  <cp:revision>70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