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7.png" ContentType="image/png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5630-BA2F-41F3-998F-82429639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7F0C-A13E-4FEB-B22D-9FB23FE4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2E8B-5419-46BA-BA67-80E2792C9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5E77-5A60-400C-9D3D-42271EDB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330E-1D23-434A-843B-4D2F763B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7A85-0DDE-4EF4-9A32-20462C9F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BBF5-966A-45C1-B3F7-40321608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C542-9317-41EF-BA11-2F7E7086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AE13-0C93-4FA6-BFC4-2C35F9E9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DCDA-166B-4D45-8BA0-70159D71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F319-743E-4991-8C3D-A5CC2AD2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FD97-414F-4EA9-A84E-8797B2AC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FDE2E-58B5-47AA-BD12-A4EB6E67919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31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муниципального образования «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раснознаменский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сельсовет» Касторенского района Курской области на 201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год </a:t>
            </a:r>
            <a:br>
              <a:rPr sz="3600"/>
            </a:b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муниципального образования «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Краснознаменский сельсовет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»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Касторенского района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 Курской области в 201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6 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год (тыс.руб.)</a:t>
            </a:r>
            <a:endParaRPr b="1" i="1" lang="en-US" sz="16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907920"/>
          <a:ext cx="9002880" cy="6008760"/>
        </p:xfrm>
        <a:graphic>
          <a:graphicData uri="http://schemas.openxmlformats.org/drawingml/2006/table">
            <a:tbl>
              <a:tblPr/>
              <a:tblGrid>
                <a:gridCol w="6603840"/>
                <a:gridCol w="776520"/>
                <a:gridCol w="776160"/>
                <a:gridCol w="846360"/>
              </a:tblGrid>
              <a:tr h="50364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20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Расходы на реализацию муниципальных программ, 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444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Microsoft JhengHei"/>
                          <a:ea typeface="Lucida Sans Unicode"/>
                        </a:rPr>
                        <a:t>1 . Муниципальная программа «Развитие культур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88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. Муниципальная программа «Обеспечение доступным и комфортным жильем и коммунальными услугами граждан» МО «</a:t>
                      </a: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Краснознаменский сельсовет</a:t>
                      </a: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3.Муниципальная программа « Социальная поддержка граждан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0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04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4.Муниципальная программа Курской области « Развитие транспортной системы, обеспечение перевозки пассажиров в «МО Краснознаменский сельсовет Касторенского района Курской области» и безопасности дорожного движени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33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5.Муниципальная программа «Охрана окружающей сред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6. Национальная оборо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67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48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муниципального образования «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раснознаменский сельсовет» Касторенского района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Курской области (тыс.руб.)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600200"/>
          <a:ext cx="8231040" cy="4060800"/>
        </p:xfrm>
        <a:graphic>
          <a:graphicData uri="http://schemas.openxmlformats.org/drawingml/2006/table">
            <a:tbl>
              <a:tblPr/>
              <a:tblGrid>
                <a:gridCol w="4979880"/>
                <a:gridCol w="1152720"/>
                <a:gridCol w="1079280"/>
                <a:gridCol w="1019160"/>
              </a:tblGrid>
              <a:tr h="7491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201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Общегосударственные вопросы, 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505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97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98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Другие общегосударственные вопро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609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2200"/>
            </a:br>
            <a:br>
              <a:rPr sz="2200"/>
            </a:br>
            <a:endParaRPr b="1" i="1" lang="en-US" sz="2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6200000">
            <a:off x="1004040" y="872280"/>
            <a:ext cx="2736720" cy="439272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о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оступа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бюджет денеж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редства в ви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логовых , неналоговых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езвозмездных поступл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 rot="16200000">
            <a:off x="5432400" y="907920"/>
            <a:ext cx="2736720" cy="432108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Рас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денеж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редства, направляе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финансовое обесп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адач и функций орг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стного самоупр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Georgia"/>
              </a:rPr>
              <a:t>Составление бюджета основывается на:</a:t>
            </a: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м посл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Основных направл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налоговой поли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Муниципальных програм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раснознаменск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ельсо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огноз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социально-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азвития 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«Краснознамен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ельсов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</a:t>
            </a: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«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Краснознаменский сельсовет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» 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Касторенского района 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Курской области на 201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6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 год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2205000"/>
          <a:ext cx="8353440" cy="4245120"/>
        </p:xfrm>
        <a:graphic>
          <a:graphicData uri="http://schemas.openxmlformats.org/drawingml/2006/table">
            <a:tbl>
              <a:tblPr/>
              <a:tblGrid>
                <a:gridCol w="2670120"/>
                <a:gridCol w="1566720"/>
                <a:gridCol w="1560600"/>
                <a:gridCol w="2556000"/>
              </a:tblGrid>
              <a:tr h="700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Наименовани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20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До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6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03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В том числ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собственные доходы (тыс.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9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5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Рас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3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Дефицит местного бюджет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3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Доходы бюджета муниципального образования «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Краснознаменский сельсовет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» на 201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6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99" name="AutoShape 4"/>
            <p:cNvCxnSpPr>
              <a:stCxn id="100" idx="0"/>
            </p:cNvCxnSpPr>
            <p:nvPr/>
          </p:nvCxnSpPr>
          <p:spPr>
            <a:xfrm flipV="1" rot="16200000">
              <a:off x="5442120" y="2602800"/>
              <a:ext cx="892800" cy="296460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01" name="AutoShape 5"/>
            <p:cNvCxnSpPr>
              <a:stCxn id="102" idx="0"/>
            </p:cNvCxnSpPr>
            <p:nvPr/>
          </p:nvCxnSpPr>
          <p:spPr>
            <a:xfrm flipV="1" rot="16200000">
              <a:off x="3962160" y="4084560"/>
              <a:ext cx="89280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03" name="AutoShape 6"/>
            <p:cNvCxnSpPr>
              <a:stCxn id="104" idx="0"/>
            </p:cNvCxnSpPr>
            <p:nvPr/>
          </p:nvCxnSpPr>
          <p:spPr>
            <a:xfrm flipH="1" flipV="1" rot="5400000">
              <a:off x="2480760" y="2605320"/>
              <a:ext cx="892800" cy="295956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05" name="AutoShape 7"/>
            <p:cNvGrpSpPr/>
            <p:nvPr/>
          </p:nvGrpSpPr>
          <p:grpSpPr>
            <a:xfrm>
              <a:off x="3114720" y="1844640"/>
              <a:ext cx="2584440" cy="1819440"/>
              <a:chOff x="3114720" y="1844640"/>
              <a:chExt cx="2584440" cy="1819440"/>
            </a:xfrm>
          </p:grpSpPr>
          <p:pic>
            <p:nvPicPr>
              <p:cNvPr id="106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14720" y="1844640"/>
                <a:ext cx="2584440" cy="181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3226680" y="1953000"/>
                <a:ext cx="2361240" cy="15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</a:rPr>
                  <a:t>1396,6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AutoShape 8"/>
            <p:cNvSpPr/>
            <p:nvPr/>
          </p:nvSpPr>
          <p:spPr>
            <a:xfrm>
              <a:off x="17928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1081,8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313992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1,2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AutoShape 10"/>
            <p:cNvSpPr/>
            <p:nvPr/>
          </p:nvSpPr>
          <p:spPr>
            <a:xfrm>
              <a:off x="6102360" y="4531320"/>
              <a:ext cx="253512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313,6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-900000" y="260280"/>
            <a:ext cx="9144000" cy="68518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Краснознаменский сельсовет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»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на 201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год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0" y="1341360"/>
          <a:ext cx="9144000" cy="503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41360"/>
                    <a:ext cx="914400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бюджета муниципального образования «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раснознаменский сельсовет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»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асторенского района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Курской области на 201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6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год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268280"/>
          <a:ext cx="8231040" cy="370836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  <a:gridCol w="2057400"/>
              </a:tblGrid>
              <a:tr h="3819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Показател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Microsoft YaHei"/>
                        </a:rPr>
                        <a:t>201</a:t>
                      </a: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Microsoft YaHei"/>
                        </a:rPr>
                        <a:t>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Условно утвержденные расх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Общегосударственные вопрос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505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Национальная 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Microsoft YaHei"/>
                        </a:rPr>
                        <a:t>оборона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Microsoft YaHei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Национальная эконом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3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Жилищно-коммунальное хозяйств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Культу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88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Социальная полит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950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user</cp:lastModifiedBy>
  <dcterms:modified xsi:type="dcterms:W3CDTF">2016-01-19T13:11:25Z</dcterms:modified>
  <cp:revision>61</cp:revision>
  <dc:subject/>
  <dc:title>БЮДЖЕТ ДЛЯ ГРАЖДАН     муниципального образования «Стакановский сельсовет» Черемисиновского района Курской области на 2015 год  и на плановый период  2016 и 2017 годов</dc:title>
</cp:coreProperties>
</file>