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6F90-8DA8-4F50-A6A3-4A0966AB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257-5537-4FCB-A438-35D14B2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63E-CDDE-4F98-9080-FA20B836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8CE-2CD7-4B13-9541-CFA2B71F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B97-7741-416B-9958-79522CE0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224-32B0-4BDD-A6CE-44B4F78E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CA7-FCBB-4BE7-9DD9-87F6C7EF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5B7-807D-4C1B-9334-8EE461E6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6AF-3924-4499-A3AE-D91C1705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083B-7149-4828-B471-595C116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D00-2FE7-42F1-AC80-809956E3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881-65A8-42F3-83D5-E27C7487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F7AC5-C6FA-4122-9F38-23C13C244C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«Краснознаменский сельсовет» Касторенского района Курской области на 2015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16 и 2017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7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-468360" y="1341360"/>
          <a:ext cx="9396360" cy="519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360" y="1341360"/>
                    <a:ext cx="939636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5 год и на плановый период 2016 и 2017 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268280"/>
          <a:ext cx="8231040" cy="498168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2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0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9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13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безопасность и правоохранительная деятель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Национальная эконом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1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8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5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3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Физическая культура и спор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        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23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49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4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ий сельсовет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07920"/>
          <a:ext cx="9002880" cy="775332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5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63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8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5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3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2 . Муниципальная программа «Энергосбережение и повышение энергетической эффективности в МО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3. Муниципальная программа «Обеспечение доступным и комфортным жильем и коммунальными услугами граждан» МО «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Краснознаменский сельсовет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45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4. Муниципальная программа «Повышение эффективности работы с молодежью ,организация отдыха и оздоровление детей ,молодежи,развитие физической культуры и спорт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.Муниципальная программа « 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.Муниципальная программа « Управление муниципальным имуществом и земельными ресурсами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.Муниципальная программа Курской области « Развитие транспортной системы, обеспечение перевозки пассажиров в «МО Краснознаменский сельсовет Касторенского района Курской области» 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08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8.Муниципальная программа «Охрана окружающей сред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0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9. Муниципальная программа « 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0.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 Муниципальная программа   «Развитие муниципальной службы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»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31040" cy="4059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50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09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13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5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5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6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4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9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2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5 год и плановый период 2016-2017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8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9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4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5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1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8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9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54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95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знаме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» на 2015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2281,3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15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122,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знаме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495,4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163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330,4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знаменский сельсовет»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7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545,7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170,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373,7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5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0" y="1341360"/>
          <a:ext cx="914400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-851040" y="1413000"/>
          <a:ext cx="999504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851040" y="1413000"/>
                    <a:ext cx="99950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Админ</cp:lastModifiedBy>
  <dcterms:modified xsi:type="dcterms:W3CDTF">2015-10-19T08:00:10Z</dcterms:modified>
  <cp:revision>54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