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83FC-013C-400A-8576-0C76D03C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F5F9-48CF-416E-8EC0-75BBEAD0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F4F6-709E-440D-8842-9BE66E32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27D-10E5-47E1-819B-2E187A76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631-86AD-4747-A8B5-8BB5401F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9F36-4708-4356-A695-ED06EF3E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4B2-7490-485C-AD43-F7FA9038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2C5-2656-48F4-8DB5-47695084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5EA-488D-4BBD-886A-CED76862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9ED0-C1EA-4AA9-B983-A62E3320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0E6-CD02-4089-A9A0-491E8EBF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7C5-0C08-464A-A070-B5720475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0A365-985F-43A7-8FD9-2081989F4A2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Georgia"/>
              </a:rPr>
              <a:t>Проект исполнения</a:t>
            </a:r>
            <a:br>
              <a:rPr sz="3100"/>
            </a:br>
            <a:r>
              <a:rPr b="1" i="1" lang="ru-RU" sz="3100" spc="-1" strike="noStrike">
                <a:solidFill>
                  <a:srgbClr val="ff0000"/>
                </a:solidFill>
                <a:latin typeface="Georgia"/>
              </a:rPr>
              <a:t>БЮДЖЕТА ДЛЯ ГРАЖДАН</a:t>
            </a:r>
            <a:br>
              <a:rPr sz="31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раснознаменский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сельсовет Касторенского района Курской области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а 2021год </a:t>
            </a:r>
            <a:br>
              <a:rPr sz="3600"/>
            </a:b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 advTm="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1" i="1" lang="en-US" sz="2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6200000">
            <a:off x="100404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поступ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в бюджет денеж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средства в ви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налоговых , неналогов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безвозмездных поступ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 rot="16200000">
            <a:off x="5432400" y="907920"/>
            <a:ext cx="2736720" cy="432108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дене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средства, направля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на финансовое 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задач и функций 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местного само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Microsoft YaHei"/>
              </a:rPr>
              <a:t>Краснознаменс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Microsoft YaHei"/>
              </a:rPr>
              <a:t>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Microsoft YaHei"/>
              </a:rPr>
              <a:t>«Краснознамен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Microsoft YaHei"/>
              </a:rPr>
              <a:t>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Краснознаменского сельсовета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Курской области 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з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а 2021 год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2205000"/>
          <a:ext cx="8353440" cy="4929120"/>
        </p:xfrm>
        <a:graphic>
          <a:graphicData uri="http://schemas.openxmlformats.org/drawingml/2006/table">
            <a:tbl>
              <a:tblPr/>
              <a:tblGrid>
                <a:gridCol w="2670120"/>
                <a:gridCol w="1566720"/>
                <a:gridCol w="1560600"/>
                <a:gridCol w="2556000"/>
              </a:tblGrid>
              <a:tr h="700200">
                <a:tc>
                  <a:txBody>
                    <a:bodyPr lIns="90000" rIns="90000" tIns="82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21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год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пл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21год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исполн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84160">
                <a:tc>
                  <a:txBody>
                    <a:bodyPr lIns="90000" rIns="90000" tIns="82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5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6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120">
                <a:tc>
                  <a:txBody>
                    <a:bodyPr lIns="90000" rIns="90000" tIns="82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5200">
                <a:tc>
                  <a:txBody>
                    <a:bodyPr lIns="90000" rIns="90000" tIns="82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9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4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198440">
                <a:tc>
                  <a:txBody>
                    <a:bodyPr lIns="90000" rIns="90000" tIns="82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ефицит местного бюджета(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Профицит бюджет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-1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p:transition spd="med" advTm="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Microsoft YaHei"/>
              </a:rPr>
              <a:t>Доходы бюджета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Microsoft YaHei"/>
              </a:rPr>
              <a:t>Краснознаменского сельсовет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Microsoft YaHei"/>
              </a:rPr>
              <a:t>а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Microsoft YaHei"/>
              </a:rPr>
              <a:t>3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Microsoft YaHei"/>
              </a:rPr>
              <a:t>а 2021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99" name="AutoShape 4"/>
            <p:cNvCxnSpPr>
              <a:stCxn id="100" idx="0"/>
            </p:cNvCxnSpPr>
            <p:nvPr/>
          </p:nvCxnSpPr>
          <p:spPr>
            <a:xfrm flipV="1" rot="16200000">
              <a:off x="5442120" y="2602800"/>
              <a:ext cx="892800" cy="296460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1" name="AutoShape 5"/>
            <p:cNvCxnSpPr>
              <a:stCxn id="102" idx="0"/>
            </p:cNvCxnSpPr>
            <p:nvPr/>
          </p:nvCxnSpPr>
          <p:spPr>
            <a:xfrm flipV="1" rot="16200000">
              <a:off x="3962160" y="4084560"/>
              <a:ext cx="89280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3" name="AutoShape 6"/>
            <p:cNvCxnSpPr>
              <a:stCxn id="104" idx="0"/>
            </p:cNvCxnSpPr>
            <p:nvPr/>
          </p:nvCxnSpPr>
          <p:spPr>
            <a:xfrm flipH="1" flipV="1" rot="5400000">
              <a:off x="2480760" y="2605320"/>
              <a:ext cx="892800" cy="295956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05" name="AutoShape 7"/>
            <p:cNvGrpSpPr/>
            <p:nvPr/>
          </p:nvGrpSpPr>
          <p:grpSpPr>
            <a:xfrm>
              <a:off x="3114720" y="1844640"/>
              <a:ext cx="2584440" cy="1819440"/>
              <a:chOff x="3114720" y="1844640"/>
              <a:chExt cx="2584440" cy="1819440"/>
            </a:xfrm>
          </p:grpSpPr>
          <p:pic>
            <p:nvPicPr>
              <p:cNvPr id="106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14720" y="1844640"/>
                <a:ext cx="2584440" cy="181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3226680" y="1953000"/>
                <a:ext cx="2361240" cy="15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4637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 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AutoShape 8"/>
            <p:cNvSpPr/>
            <p:nvPr/>
          </p:nvSpPr>
          <p:spPr>
            <a:xfrm>
              <a:off x="17928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Microsoft YaHei"/>
                </a:rPr>
                <a:t>1587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313992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доходы 40</a:t>
              </a: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Microsoft YaHei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10"/>
            <p:cNvSpPr/>
            <p:nvPr/>
          </p:nvSpPr>
          <p:spPr>
            <a:xfrm>
              <a:off x="6102360" y="4531320"/>
              <a:ext cx="253512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Microsoft YaHei"/>
                </a:rPr>
                <a:t>3010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Краснознаменского сельсовета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а 2021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-539640" y="2157480"/>
          <a:ext cx="9144000" cy="5037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39640" y="2157480"/>
                    <a:ext cx="914400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бюджета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раснознаменского сельсовета Касторенского района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3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а 2021 год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268280"/>
          <a:ext cx="8231040" cy="498024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3823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21 год пл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21 год исполн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7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43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н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Национальная безопасность и правоохранительная деятель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Национальная эконом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49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4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95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9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Культу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Социальная полит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7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Lucida Sans Unicode"/>
                        </a:rPr>
                        <a:t>2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49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44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Краснознаменского сельсовета Касторенского района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 Курской области в 2021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 году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 (тыс.руб.)</a:t>
            </a:r>
            <a:endParaRPr b="1" i="1" lang="en-US" sz="16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907920"/>
          <a:ext cx="9002880" cy="7763040"/>
        </p:xfrm>
        <a:graphic>
          <a:graphicData uri="http://schemas.openxmlformats.org/drawingml/2006/table">
            <a:tbl>
              <a:tblPr/>
              <a:tblGrid>
                <a:gridCol w="6603840"/>
                <a:gridCol w="776520"/>
                <a:gridCol w="776160"/>
                <a:gridCol w="846360"/>
              </a:tblGrid>
              <a:tr h="88920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21ггод пл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21ггод 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1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19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Microsoft JhengHei"/>
                          <a:ea typeface="Lucida Sans Unicode"/>
                        </a:rPr>
                        <a:t>1 . Муниципальная программа «Развитие культур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. Муниципальная программа 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«Энергосбережение в муниципальном образовании Краснознаменского сельсовета» 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. Муниципальная программа «Защита населения и территории от чрезвычайных ситуаций, обеспечение пожарной безопасности и безопасности людей на водных объектах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4.Муниципальная программа « Социальная поддержка граждан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5. Муниципальная программа «обеспечение доступным и комфортным жильем и коммунальными услугами граждан в МО «Краснознаменский сельсовет» Касторенского района Курской област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1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6.Муниципальная программа Курской области « Развитие транспортной системы, обеспечение перевозки пассажиров в «МО Краснознаменский сельсовет Касторенского района Курской области» и безопасности дорожного движени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4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4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7.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 Муниципальная программа   «Развитие муниципальной службы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8. Муниципальная программа  «Управление муниципальным имуществом  и земельными ресурсам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9.Муниципальная программа  «Охрана окружающей среды в Краснознаменском сельсовете  на 202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8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8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раснознаменского сельсовета Касторенского района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600200"/>
          <a:ext cx="8231040" cy="569736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  <a:gridCol w="1079280"/>
                <a:gridCol w="1019160"/>
              </a:tblGrid>
              <a:tr h="8683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21год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 пл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21год</a:t>
                      </a: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исполн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7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4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4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4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7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7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810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Обеспечение деятельности финансовых, налоговых и таможенных органов и органов финансового контро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810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Обеспечение и проведение выборов и референдум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4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Lucida Sans Unicode"/>
                        </a:rPr>
                        <a:t>11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user</cp:lastModifiedBy>
  <dcterms:modified xsi:type="dcterms:W3CDTF">2022-04-20T08:15:30Z</dcterms:modified>
  <cp:revision>105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