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D44-86D4-4563-BF41-F248DB35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94E-84E1-45CD-824C-3537963F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2CD-F4AB-4B03-BB0B-8F15DDA9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639-C49E-4E63-A984-1B85AE72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DF8-F12B-4C74-83EE-6D0C3FE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237-C2A1-4413-81B6-73F28010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453-97BF-420A-9CC1-3D5B3DE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8ED-87EF-4555-9FC4-C18E0EF1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DEA-5B5F-4854-AA12-98C77261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D45-928C-4F59-86D1-6E24496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44C-C3C0-498E-83C9-F7E4100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E05-2279-441C-98FA-1B96022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F435-23A5-44E3-B624-41131DD4601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«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аснознаменский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ельсовет» Касторенского района Курской области на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023 и 2024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Microsoft YaHei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Microsoft YaHei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Прогно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Microsoft YaHei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Microsoft YaHei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 проекта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22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 плановый период 2023 и 2024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-892440"/>
            <a:ext cx="7345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проекта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22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-160200" y="2154240"/>
          <a:ext cx="774684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60200" y="2154240"/>
                    <a:ext cx="77468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852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22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плановый период 2023 и 2024 годов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208160"/>
          <a:ext cx="8231040" cy="466884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2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91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безопас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Lucida Sans Unicode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2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4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проект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ий сельсовет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21 год (тыс.руб.)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 плановый период 2022 и 2023годов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393840"/>
          <a:ext cx="9002880" cy="821988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36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7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Georgia"/>
                          <a:ea typeface="Lucida Sans Unicode"/>
                        </a:rPr>
                        <a:t>2. Муниципальная программа «Обеспечение доступным и комфортным жильем и коммунальными услугами граждан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  <a:ea typeface="Lucida Sans Unicode"/>
                        </a:rPr>
                        <a:t>3.Муниципальная программа « Социальная поддержка граждан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2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  <a:ea typeface="Lucida Sans Unicode"/>
                        </a:rPr>
                        <a:t>4. Муниципальная программа «Развитие муниципальных служб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d60093"/>
                          </a:solidFill>
                          <a:latin typeface="Arial"/>
                          <a:ea typeface="Lucida Sans Unicode"/>
                        </a:rPr>
                        <a:t>5. Муниципальная программа « 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d60093"/>
                          </a:solidFill>
                          <a:latin typeface="Times New Roman"/>
                          <a:ea typeface="Lucida Sans Unicode"/>
                        </a:rPr>
                        <a:t>6. Муниципальная программа "Управление муниципальным имуществом и земельными ресурсами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Lucida Sans Unicode"/>
                        </a:rPr>
                        <a:t>7. Муниципальная программа "Энергосбережение и повышение энергетической эффективности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Lucida Sans Unicode"/>
                        </a:rPr>
                        <a:t>8. Муниципальная программа "Профилактика правонару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Lucida Sans Unicode"/>
                        </a:rPr>
                        <a:t>9. Муниципальная программа «Развитие малого  и среднего предпринимательства 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»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92360"/>
          <a:ext cx="8435880" cy="5335560"/>
        </p:xfrm>
        <a:graphic>
          <a:graphicData uri="http://schemas.openxmlformats.org/drawingml/2006/table">
            <a:tbl>
              <a:tblPr/>
              <a:tblGrid>
                <a:gridCol w="5445000"/>
                <a:gridCol w="1260720"/>
                <a:gridCol w="865080"/>
                <a:gridCol w="865080"/>
              </a:tblGrid>
              <a:tr h="736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0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9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Обеспечение деятельности финансовых, налоговых и таможенных органов и органов финансового (финансово-бюджетного)надз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2-01-11T06:34:19Z</dcterms:modified>
  <cp:revision>130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