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F79-00AC-4ECD-9D2C-1E32B638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94F-083F-4283-8941-D2A4E29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CD0-723E-46A2-AE18-C9D7B770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280-3E45-4A4D-901A-2A598DFC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067-71D1-4701-8937-51F04B46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B64-4B54-497D-AB9F-0C1D717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7A2-2B19-4CF2-B13F-62CCB66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1B7-17AB-4C05-BA8C-648AC0B4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777-E16B-4DEA-AA81-678E2FA2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43D-0A18-4E9F-838E-078DCDA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364-BA7B-4143-96BC-CA8A459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633-D063-4C4C-AB68-AE02D57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D3A6C-0F31-45D9-AA34-13567FF180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аснознаменский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ельсовет Касторенского района Курской област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 2020год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ого сельсовета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а 2020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92912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г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0г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8416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0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8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5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8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19844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(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рофицит бюджет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Краснознаменского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3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2020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489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1427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 21</a:t>
              </a: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44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ого сельсовета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а 2020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-539640" y="2157480"/>
          <a:ext cx="9144000" cy="503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9640" y="215748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ого сельсовета 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а 2020 год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268280"/>
          <a:ext cx="8231040" cy="4980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2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0 год 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0 год исполн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4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7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6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2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5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ого сельсовета 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20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 году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907920"/>
          <a:ext cx="9002880" cy="776304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889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0ггод п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0ггод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9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27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. Муниципальная программа 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«Энергосбережение в муниципальном образовании Краснознаменского сельсовета» 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.Муниципальная программа « 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. Муниципальная программа «обеспечение доступным и комфортным жильем и коммунальными услугами граждан в МО «Краснознаменский сельсовет» Касторенского района Курской облас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.Муниципальная программа Курской области « Развитие транспортной системы, обеспечение перевозки пассажиров в «МО Краснознаменский сельсовет Касторенского района Курской области» 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.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 Муниципальная программа   «Развитие муниципальной службы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. Муниципальная программа  «Управление муниципальным имуществом  и земельными ресурс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9.Муниципальная программа  «Охрана окружающей среды в Краснознаменском сельсовете  на 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3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3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ого сельсовета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31040" cy="5697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0год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0год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Обеспечение деятельности финансовых, налоговых и таможенных органов и органов финансового контр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9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17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1-04-19T09:48:24Z</dcterms:modified>
  <cp:revision>100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